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6112-C6AF-4F2C-83BC-96373F5A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BA3-B683-4549-9CD5-D8462D1B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F0F-53E6-4E9A-B1A2-BFF0AD41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0E0E-2718-47F9-BD7A-D6578B77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0A3B-F287-499C-9946-B146C8694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2AFC-9CDF-4433-BE03-CC3E716C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378D-1866-49AC-855A-3F40A4F4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77A3-4E36-42EB-B51B-71F47850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571E-00AC-4444-8733-1E5CDDB8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5541-2925-456D-A83F-0EB68B9B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13D4-4A81-49AF-A40C-0A4C59E6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AA2-0B27-4D8E-9532-BDCF5A1F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92DD-004E-4AEE-878B-41F92120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7538-4B0E-4AE3-AF30-9E9469B7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5A88-90CE-408C-BA3E-924121DC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F4C0-F889-40A9-ADB2-CC3C945C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A513-0848-4C5C-9475-A770005E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342-32E5-4D0B-BE89-A191C126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3E6-2B42-4878-9148-8D05629B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1CF3-6198-4706-A7F0-FA53C98C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98EA-4F53-446F-A360-1D09B958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8F73-081A-4DFC-A7C8-2CA5DE59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04C8-1B28-4466-AA71-E70FA0E1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1F1D-C7A6-498F-B035-61331392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B520-F993-439C-A1D6-D678F082C2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4b269"/>
                </a:gs>
                <a:gs pos="50000">
                  <a:srgbClr val="e9d47d"/>
                </a:gs>
                <a:gs pos="100000">
                  <a:srgbClr val="c4b2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16542"/>
                </a:gs>
                <a:gs pos="50000">
                  <a:srgbClr val="d4dd91"/>
                </a:gs>
                <a:gs pos="100000">
                  <a:srgbClr val="61654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4E22-7D7A-4717-B440-D0254B9E65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6966000" cy="3124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3f3b1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729"/>
                </a:solidFill>
                <a:latin typeface="Arial Black"/>
              </a:rPr>
              <a:t>Figures of Speech:</a:t>
            </a:r>
            <a:br>
              <a:rPr sz="4800"/>
            </a:br>
            <a:r>
              <a:rPr b="1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666729"/>
                </a:solidFill>
                <a:latin typeface="Arial"/>
              </a:rPr>
              <a:t>The art of playing with language.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Portfolio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celle Monteros and Paulo Fabri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Gauging Student Needs Assessments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CFQs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knowledge on literature, grammar and po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 on dialogue and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ess 21st Centur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identify figurative speeches and to create an original and creative literary outpu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Gauging Student Needs Assessments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an use the information from these assessment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fy the perceived ideas of the students toward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new activities and develop existing teaching strate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can use the information from these assessment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 their learning from other fields and articulate their ideas in a creativ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ir personal standards on their intellectual, aesthetic, and social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END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3429000" cy="1881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729"/>
                </a:solidFill>
                <a:latin typeface="Arial"/>
              </a:rPr>
              <a:t>Unit Summary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066680"/>
            <a:ext cx="7386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is 21st century where communication plays a vital role in nation building, it is good for someone to know the basics of the figurative languag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762120"/>
            <a:ext cx="73864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an art that is most likely to be misunderstood by others because it is unusually absent in a common conversation. Through this, the students will be able to express their thoughts creatively, fluently, and effectivel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CFQs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figure of speech show the values of humility, creativity, and cheerfuln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promote peace in the interpersonal and social means with the use of effective communic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we apply figures of speech in our daily lives while applying the necessary valu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Content Questions</a:t>
            </a: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possible to make use of the different figures of speech in commun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integrate figures of speech in daily commun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learning and insight we can get from using figures of speec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Vision for Unit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on planning of this unit plan, we want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ew methods and strategies in teaching while integrating modern means of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n effective medium of communication that promote a mutual understanding to every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up with a very excellent learning experience for the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is unit, we want our student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iate and summarize the different figurative speeches in English langu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the different figures of speech in creating po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tize an original dialogue for the role-playing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Project Approaches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ur students work on this project,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appreciate the relevance of the figurative speech in human communic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to groups and learn to coope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 their literary works to their pe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21</a:t>
            </a:r>
            <a:r>
              <a:rPr b="1" lang="en-US" sz="4400" spc="-1" strike="noStrike" baseline="30000">
                <a:solidFill>
                  <a:srgbClr val="666729"/>
                </a:solidFill>
                <a:latin typeface="Arial"/>
              </a:rPr>
              <a:t>st</a:t>
            </a:r>
            <a:r>
              <a:rPr b="1" lang="en-US" sz="4400" spc="-1" strike="noStrike">
                <a:solidFill>
                  <a:srgbClr val="666729"/>
                </a:solidFill>
                <a:latin typeface="Arial"/>
              </a:rPr>
              <a:t> Century Learning</a:t>
            </a:r>
            <a:endParaRPr b="0" lang="en-US" sz="4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will develop higher-order and 2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entury skills in this unit as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 of Critical Thinking and Problem Solv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Communication and Excellent 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ion among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ve and Self-Dir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1:30:48Z</dcterms:created>
  <dc:creator>nave1386</dc:creator>
  <dc:description/>
  <dc:language>en-US</dc:language>
  <cp:lastModifiedBy>nave1386</cp:lastModifiedBy>
  <dcterms:modified xsi:type="dcterms:W3CDTF">2010-09-20T21:29:23Z</dcterms:modified>
  <cp:revision>19</cp:revision>
  <dc:subject/>
  <dc:title>Figures of Speech:  The art of playing with language. </dc:title>
</cp:coreProperties>
</file>